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85F8-7FF2-4A8D-8F11-831288B8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CD61-2B7B-40E7-90DE-B1129792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C2FC-0451-455E-B2FD-87DF08D5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28D0-2D53-45AE-83EF-87FFAEDE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E7C-F843-4DF2-919A-2C969A16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C74D-614B-4258-AC9C-E68CC414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AD0C-6BD3-49CF-8176-087A7EBA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A5E1-FB88-4405-B87F-22BB4F2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A354-B7CF-4F94-95E0-51434AF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D535-E59A-4851-9DD8-DFE489BD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BC4-68A1-49EE-B108-A4348C9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94CA-D815-4901-8837-733C514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54AC-E7EB-46EE-9142-A615390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9917-9560-433D-BB3F-A3A4B09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4F7-194D-4743-B359-44CF7F9D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F6D-4E67-4A7A-8BE3-855BA058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309E-47E3-4D0B-AE82-D3FD39B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C71B-DBC9-4553-9E06-0A7EAED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7F58-EEF5-4A87-B32C-609F3622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99D7-59DF-4DD4-BEB2-6A67EAE3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1BB4-32DC-4010-B17D-0C45F08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34FE-E7B9-4020-81F3-EA535831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46C7-1532-4B05-A306-3DE5F45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733B-B973-423A-8409-29A1EB0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025-429D-4CA3-A3EC-1C4C000794D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DFF-B935-464F-B0D6-91F12C48843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80 (52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Изпитай нашите сърц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е, и какъвто гря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искреност или лъж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ериш Ти сега у тя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цяло ги изкоре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еда от тях да няма в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 туй желание вдъхн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угодим на наший Спас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Ти укрепи нозете 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ко би да заблудя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ни оставяй, но вър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утвърди ни в Твоя пъ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 нас ако се пород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ин към другиго тъжб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' скоро да се погод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брат на брата да прос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9440"/>
            <a:ext cx="957744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Помагай ни - един на дру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а си помагаме и ни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заимно да споделим труд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ечал и скръб, и теготи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а знае всеки брат так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че брат му е за него все: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спомагателна ръка, и съчувствително сърц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289440"/>
            <a:ext cx="957744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Дай да се назидавам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заимно в свят и чист живо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тъй да си посочвам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един на други Твоя път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За да растем в благодатт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и, Боже, вяра ни придай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 надеждата и в любовт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и ни усъвършенствувай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31T08:30:14Z</dcterms:modified>
  <cp:revision>112</cp:revision>
  <dc:subject/>
  <dc:title>Slide 1</dc:title>
</cp:coreProperties>
</file>